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78D-8A6A-48D4-91A8-67608B64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D14-2555-40A1-BE84-F766F1D1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8E8-13E9-4160-9086-BDF82E9D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D07-4A43-497E-BAB9-9DDF9E9C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D23-8825-4BC6-870E-F2A3A4E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2C3-89B8-46AD-81A4-DC6D810D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397-615E-4295-A8B7-F559D84C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F70-1ACC-4C41-81A1-DE5013D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153-4A2A-4244-9CE9-6C0E70E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24B-FC7D-4A6B-A2AF-C9CB695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BB0-403A-4041-809B-97BA59F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48F-3A08-4EC6-B5FD-1EE0520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25B-A2BE-42C0-A968-45A6961D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ن عُمـقِ آثامـي دعـوتْ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صِتْ الى صوتِ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دعـــا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ا غيرَ وجهِـك ما رجـوت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لقاهُ مأدبــةُ رجــــا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581280" cy="14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هبْ من حنانِك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طر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تحـوّلُ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قفرُ وعو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و أعطِ عينيَ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دمعــ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وضها طفـلاً                                                                                                                                                                                                              أعـ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3581280" cy="90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ذا استبـدَّ بيَ                            الخجلْ أو أبكمَ العارُ فمـ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بضاتُ حُبِّـك فلتـَز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ـى النهايــةِ في د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17:20Z</dcterms:created>
  <dc:creator>SUZANNE.MD</dc:creator>
  <dc:description/>
  <dc:language>en-US</dc:language>
  <cp:lastModifiedBy>HANI SAFI</cp:lastModifiedBy>
  <dcterms:modified xsi:type="dcterms:W3CDTF">2003-03-14T12:24:33Z</dcterms:modified>
  <cp:revision>4</cp:revision>
  <dc:subject/>
  <dc:title>PowerPoint Presentation</dc:title>
</cp:coreProperties>
</file>